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8AA-9A39-45DF-90AA-C11C4AA8A80A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6D99-0B3D-4C3B-B254-5D10C993FB9B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06D-1D6F-41FB-BCA4-3A023F4B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4B5-D319-4BB0-9D7E-14C7993E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583-1725-43CA-A1E0-D3DA95B9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5FF-CC3D-4036-A4C0-C2EFE23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876-62E6-41F7-A035-038263B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AB5-1BD2-4E4C-8B40-6A04F1E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31C-3478-4259-B3A1-3439080D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64D-ED41-4DDE-9597-C1F57796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DDE-3720-4BA7-B7CD-78D1CCE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03E-ABDE-4C72-856A-6E1DD2D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292-F99C-4547-9696-9601A45F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824-2E91-4C97-8EB6-57A92C7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7A9B-32C2-460F-A892-0D19C2723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โลโก้ อบต"/>
          <p:cNvPicPr/>
          <p:nvPr/>
        </p:nvPicPr>
        <p:blipFill>
          <a:blip r:embed="rId1"/>
          <a:stretch/>
        </p:blipFill>
        <p:spPr>
          <a:xfrm rot="19878000">
            <a:off x="2361960" y="3276360"/>
            <a:ext cx="311148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295280" y="8153280"/>
            <a:ext cx="5105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อำเภอเมืองนครราชสีมา  จังหวัดนครราชสีมา</a:t>
            </a:r>
            <a:endParaRPr b="1" lang="en-US" sz="2800" spc="1" strike="noStrike">
              <a:ln w="0">
                <a:noFill/>
              </a:ln>
              <a:solidFill>
                <a:srgbClr val="000000"/>
              </a:solidFill>
              <a:latin typeface="LilyUPC"/>
              <a:ea typeface="LilyUPC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52480" y="114300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แผนพัฒนาตำบลสามปี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LilyUPC"/>
              <a:ea typeface="Lily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พ</a:t>
            </a: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.</a:t>
            </a:r>
            <a:r>
              <a:rPr b="0" lang="hi-IN" sz="4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ศ</a:t>
            </a: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. 2553-2555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LilyUPC"/>
              <a:ea typeface="LilyUPC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52480" y="7391520"/>
            <a:ext cx="4267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00"/>
                </a:solidFill>
                <a:latin typeface="LilyUPC"/>
              </a:rPr>
              <a:t>องค์การบริหารส่วนตำบลตลาด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LilyUPC"/>
              <a:ea typeface="Lily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08:23:11Z</dcterms:created>
  <dc:creator>123</dc:creator>
  <dc:description/>
  <dc:language>en-US</dc:language>
  <cp:lastModifiedBy>COMPAQ</cp:lastModifiedBy>
  <dcterms:modified xsi:type="dcterms:W3CDTF">2010-02-09T08:47:27Z</dcterms:modified>
  <cp:revision>31</cp:revision>
  <dc:subject/>
  <dc:title>ภาพนิ่ง 1</dc:title>
</cp:coreProperties>
</file>